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556-168B-4385-888E-1A894E84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0D6-0BCB-4A9C-98AA-0866B72B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26B-6124-4828-803F-B38EC8A6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D28-7974-40F6-A135-1A3E6773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7C96-4E3E-44CA-9804-B163C8B1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2122-819B-4CA9-983B-3073FBA2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D192-3A8D-4F73-A061-CD3FDAF2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6FEA-80A4-4187-A8B1-9F6EFC9F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A0FA-3308-4BFC-BEB8-CCB19C7E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F9E2-F73B-4788-8BE2-21CAA40C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2D1E-6085-456B-8308-79A9420B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F18-78F0-4A3E-B48F-8E65C1A9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0FDC-06EA-4F5E-9D27-1B5758BF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56A1-9AF3-4988-A894-89E06272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CB8E-85E5-47FE-829A-FA7B8C88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9685-06AC-4D92-AB77-BD95D36A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04D8-D75F-4E14-AA6A-3E02D2D5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FA9-4968-44F6-864C-573BC1AB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8EC-D747-4B29-8ACA-9E020D31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97D-A8E5-4B87-8C0E-B23D0DA8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D90-0D80-4ECD-AB28-A151637B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501-3CD6-4F55-8A13-3B162D11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D8E1-EDFA-4A97-9A77-89F6D7E7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054-31C3-4763-8859-A8A57031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A45F-B04F-4CD0-8423-6234CF6765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D268-7729-4682-8FCE-AECA5CA83C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Урок русского языка в 7 классе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7640" y="4723920"/>
            <a:ext cx="6967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втор: Ковальчук Алена Мирославовна 4курс филологический факульт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ГПИ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399680" y="1628640"/>
            <a:ext cx="6694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астица как часть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Аннотация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анный проект предназначен для обогащения у учащихся знаний, также для обогащения этих знаний и для укрепления уже существующих. Работа нацелена на подробное изучение частиц в 7 классе. Здесь рассмотрены вопросы правописание частиц, разряды частиц, употребление частиц в реч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3957840" cy="4608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940360" y="2276640"/>
            <a:ext cx="2505240" cy="3240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692360" y="260280"/>
            <a:ext cx="59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то такое ЧАСТИЦ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Основополагающий вопро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Зачем нужны части реч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12000" y="2852640"/>
            <a:ext cx="24890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блемные вопро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ие разряды частиц бываю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чему они так называю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авописание частиц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потребление и разграничение на письме частиц НЕ и Н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Показать отличие частиц от знаменательных частей речи, сходство и отличие их от других служебных частей речи.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Уметь определять роль частиц в предложен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Создать ситуацию успеха на урок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916360" y="333360"/>
            <a:ext cx="338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и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редставление результатов исследов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Фото-репорта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укле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б-сай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чинение или эсс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зентация доклад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ворческие задания (инсценировка, творческая презентация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должительность проек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недел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урока по 45 мину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2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апы проведения проек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бор и формулировка тем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иск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амостоятельная работа учащихс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едставление результатов исследов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Информационные ресур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сский язык: Учеб.для 7 кл. общеобразоват.учреждений/Т.А.Ладыженская, М.Т.Баранов. Л.А.Тростенцова и др.- 31-е изд.- М.: Просвещение. – 2005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дыженская Т.А. методическое руководство к учебнику «Русский язык» для 7 кла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етаева Е.А.Современные открытые уроки, Р.Я. 7 класс Ростов- на- Дону, Феникс 20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15:04Z</dcterms:created>
  <dc:creator>home</dc:creator>
  <dc:description/>
  <dc:language>en-US</dc:language>
  <cp:lastModifiedBy>Владимир</cp:lastModifiedBy>
  <dcterms:modified xsi:type="dcterms:W3CDTF">2010-04-22T18:30:01Z</dcterms:modified>
  <cp:revision>25</cp:revision>
  <dc:subject/>
  <dc:title>Урок-путешеств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